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FFB-C4BF-45D9-8F64-3B77680E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130-E1BE-47E3-99AF-F352EF1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74-E54F-45F5-98E9-DC38A7A9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7D3-2773-48B3-B5EA-494590DF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F02-B9FB-4795-A8DA-059D591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A06-4307-49B1-9E66-0F5FD68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2A2-C6F5-4A52-A165-A57ABB3A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432-45CA-44A0-8841-FE2C93DA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D8A-7094-4FAD-9739-883837B4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FD4-51A1-4CD1-93BF-499DF49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40B-32AA-4320-9F1D-CF57768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795-5AB6-40F1-AE58-51B03EF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0E41-2520-4444-AEBE-B2E50DCA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uecross.org.uk/web/site/home/home.a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itting dog"/>
          <p:cNvPicPr/>
          <p:nvPr/>
        </p:nvPicPr>
        <p:blipFill>
          <a:blip r:embed="rId1"/>
          <a:stretch/>
        </p:blipFill>
        <p:spPr>
          <a:xfrm>
            <a:off x="1979640" y="4162320"/>
            <a:ext cx="1584360" cy="269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89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9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he Blue Cross Britain's pet charity">
            <a:hlinkClick r:id="rId2"/>
          </p:cNvPr>
          <p:cNvPicPr/>
          <p:nvPr/>
        </p:nvPicPr>
        <p:blipFill>
          <a:blip r:embed="rId3"/>
          <a:stretch/>
        </p:blipFill>
        <p:spPr>
          <a:xfrm rot="20917200">
            <a:off x="6084720" y="3141720"/>
            <a:ext cx="1872000" cy="316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1054000">
            <a:off x="684360" y="549000"/>
            <a:ext cx="7881840" cy="30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lue cross</a:t>
            </a:r>
            <a:endParaRPr b="0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at is the blue cross? wel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lue cross Is a charity for abused and abandoned animals. I will put posters up to keep people involved! And making people more aware that its out t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Fundraisin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y ideas for the fundraisings are some simple one, like selling raffle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 run cross country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ngs we could do are guess how many sweets in a 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things and sell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 sponsored game of football or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ts band to play gigs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ill support my charity by raising money, helping to organize events, get as many people involved as possibl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helping with anything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20983800">
            <a:off x="684360" y="549360"/>
            <a:ext cx="77054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will I support this charit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43:12Z</dcterms:created>
  <dc:creator>Gary Roach</dc:creator>
  <dc:description/>
  <dc:language>en-US</dc:language>
  <cp:lastModifiedBy>nb</cp:lastModifiedBy>
  <dcterms:modified xsi:type="dcterms:W3CDTF">2007-12-06T08:53:08Z</dcterms:modified>
  <cp:revision>2</cp:revision>
  <dc:subject/>
  <dc:title>Blue cross</dc:title>
</cp:coreProperties>
</file>